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AB1-2219-45C0-A5A9-F3F7F212E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B36D-D47B-4627-9A99-2E995A2F50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1B31-65BE-4F9F-8FDD-3A11D2F231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BEC-82BF-401A-A55D-99AC592C05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3CE-AEFD-468B-A55D-768EDE5C2D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D17-8558-4494-8DCC-579DA733A2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E322-43BF-4084-802A-3B91C0DC8B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08F-7E7F-421C-B6FC-AA2049C186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6B93-5403-4C63-AAE6-6A1FC0E3AB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46F6-6934-4504-9004-287A27E8CD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254-A690-49AA-AA57-2340F77895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6C1-FA89-48BC-B523-8B24B811F2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926-4EEF-446B-B1D9-FACA2B29E5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EB8-2ACB-4A2F-8232-D018355D08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F2C-878E-422C-AC29-DCA7A9E8DD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EB17-1439-43EF-B681-B98F70AA14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7B3-55C2-4F3D-964F-3AAC4178C4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920-4DC8-4317-A245-00A915D8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B62-D3C3-4437-9B2C-2A9CD4F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5274-86C4-489B-8E90-113DE80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0D8EC-7DA0-4823-A53F-AD0EF9BF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E4AB8-F765-4992-B5F9-FDA0095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1080-82F6-42DE-BCEF-72877D2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E735B-59FB-44FD-92A8-83015BE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5A673-1189-4CAD-B400-E8E3467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94F3F-613D-4732-BC7B-7AB57390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7ADC-9CB9-40EC-A4BE-5689EB6D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F239-8AF5-4D68-8581-F23BA3D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57C7E-B458-47E7-A202-FD61E9D4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98F-903B-49EF-8A7F-75CAE33F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2149-3786-4B3B-A2DA-20A4DD20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31520-DB81-484A-904B-2CEE33D6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4FDDE-D9A3-429E-A8E1-6F327CC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5117C-63D9-43DF-95F4-7C79BBE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E2FC3-59FA-439F-BA06-2F53CCF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45631-3B54-4EDA-8C78-83D99C6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D196-5E3B-4C78-98EE-7A7AC281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74C38-341F-4FB6-84DE-DA6F8730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2702-C0BD-4FB7-AAF2-113450A6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7289B-D4EA-4C02-B99F-A1BFD825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816-9F58-47E9-BA1C-E68C7139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8969D-43A6-4B9D-ADA5-3848D4A5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F2789-C437-4480-86C3-1DD6D7C5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D423-A77A-498C-AFCA-B8D99ABA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815E-12BF-45FD-A8EB-33A184F4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A9749-7056-4FE4-9CEB-81D3F99E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CA72-BF42-4736-BCDA-79A09746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D9844-7779-4244-AB2A-9522D1C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04422-CC0B-4786-BD8A-F85F97A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82634-371E-4F2F-B350-B8E72E8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12865-13B1-4344-AFE2-807F341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3F8-A966-4A58-8E7B-6620713D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5ED34-6E8F-481A-8B1E-0DEAEC84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03A1-1E31-4A87-B9CC-41A59774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9E000-9055-43BF-B1CA-C4A5CF60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F30A5-F3A0-47D6-A473-A8A452C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F6EF3-8E05-4841-8130-B8A19662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54600-5CFE-4B36-9F43-7F17AA7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40C04-0908-4B34-9089-8A849731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EAE60-17F9-4A66-8B49-BC1ABFD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94DCE-08F1-4616-88DA-81ABA65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B7CC3-C7CE-41C2-878C-B4C64E8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413-79F9-4718-81FB-1A92638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5D44E-3C03-46A3-ADA0-2FD9860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F620B-1911-4BD3-AE9A-2541BC2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BA05-1593-4D16-8472-19F00ED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61BC3-1B15-4B85-899E-A1347C1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1AB1D-5ECC-474C-81BC-1C44EC1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6D590-FC7B-4D8D-BFF1-12A4974D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8CCFF-43EA-497F-A939-CAA1601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AF922-DA2B-49E9-A3D2-6E8B10E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53030-DE07-49EC-8B6E-2EBD27D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EAA45-D920-4F80-8443-1A4AE692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B994-EFCD-4FFE-B7D7-3E1D8C1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2948B-18D1-4C09-B408-A79FE4F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DECD1-9B48-4B69-83F0-E1A8653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62C4C-D0D8-492D-BE97-E76C5E5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EAB4F-6D82-4EF7-8352-9CAB279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64A76-5EE2-4B28-95A2-E2D550B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FED25-502F-47A9-AD4F-BF2022FE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D0EFF-A009-4AFB-BBFE-440F9769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665-905C-47AB-954F-A633859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F127-E18E-4FC0-9531-9B6A361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A00-FECA-4C44-8716-176F564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C4D7-5C54-4EF2-86E8-9B47C2D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061-5E03-4E33-BCB6-9BC55BB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B93-CDD2-42FA-9A4D-0402D9D5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D42D-D02D-4D53-B708-D3D0C94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3331-2BC4-422D-A320-13285EC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D87-E09A-4478-A4B9-D7442B94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54C7-E1B4-4202-B800-47D1F8F5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2EC2-C964-4D26-BADD-466E50D3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7B06-B28F-4771-8A38-FA30497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3C30-23F3-488A-9CE6-CAFBAAE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86AC-990C-4E13-B176-C471FB53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C1D8-78BC-4034-922D-20DE4784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57F-D4E4-4949-9356-68EF4F8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61C6-0FF0-42B0-A7D2-75344DD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5251-B70E-49BE-B433-29367E3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4AC4-0799-4009-AFF0-9596DA6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C549-076B-45AC-B279-FC4766E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2D80-A29A-42DD-9C83-CF9BD36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FC85-9281-4A80-940F-DFE2D910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3556-1F57-486F-8DB0-D5DE44D7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F27B-89E0-40AF-B01A-86D2A41E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F1E3-48B2-4AFD-81FD-25DAD37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4283-6626-4A0E-A7EA-6415822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A8A-3EB6-44CD-BDA9-8000B5B2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B42F-696C-4EBD-98A6-07C48B7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D1F2-119C-4FBB-8781-CD3D7FD6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D4F1-CCCD-4CA3-B95D-9F1CFF0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5779-8DEF-4E7F-8DDE-FA7BFE1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B0E7-11EC-4150-940B-39FB148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B0D4-5867-4A89-B32F-2A18EF5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9D8CA-0F4B-42BF-9B7F-7BAF32A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089D-9C8F-4197-B175-2A2B9242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D50C-4D47-4121-A786-B40CDA13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679E-EF1E-48AA-BD97-EE83288B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235-CCA8-4A18-A34F-54C0BD0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443F-A8D3-411C-802D-164624C8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E86A-81D3-4E27-BD3E-51801C1C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66F5-A741-4647-85F7-A668629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7000-B87A-408D-8347-B705DF6F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133D-A5E8-482F-9320-D236AD1D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0660-B8ED-4D53-947E-95A8E74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2767-1CB0-4EF1-8AC9-E655AAA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0DF6-65C7-4EB7-98A7-F0351F8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58E7-92DB-438D-88B7-53F0B84E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9F79-D88C-4FFE-85CC-3599A876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D66-8235-46D0-B7EB-66F320C8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04F1-669E-4AEE-A6F0-EEF0E94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FA81-ADE6-4A3A-88EB-E67D0B77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9617-C450-4BEE-8B13-CD7AE86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8DD4-940E-40D0-B81A-100DCA1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9800-072E-4905-B6AE-1E43942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50C4-C485-457C-81E3-9059F15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17A3-87AE-44A1-961C-C3DFF268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C4CF-22BD-45D4-B99C-A1E45B8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D493-2EB8-4899-97A5-968BEE0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B055-308B-46AF-846A-F0D1238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972-FF88-4616-A229-425A471F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F987-300C-4F6D-B015-2B6AF4E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6F6C-1779-4F42-92DC-A39D33A0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874F-80DB-47F1-82D0-D96C3FED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F44F-B99E-4842-8AEA-3CFF1CAE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F525-7910-4422-8D68-B9D6309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6B44-4797-4151-82EB-C7A2375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A647-C219-49AC-9D28-82C0EDD3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6A66-44CB-418C-B2E6-1865CE5D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059F-822A-490F-85B2-BD9B33C7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1ACB-3DAA-416D-9260-2D4A470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CDC-20AC-4595-B8BC-6A933A2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6304-E2FF-4A27-9B9F-5454C25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A527-DA2B-4EA4-B388-52E5A8E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3B3C-A63E-4180-AADC-95308AD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1886-4D4B-444E-BF38-4BCB9DF1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662AB-F559-4F0A-A832-5DAB2484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38BE-99FA-413E-97E0-FAD07A55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CA86-5AC3-4C17-8B16-86790D6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96CA-1A17-4E2F-83FD-EB4BA51B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BDD5E-54D7-4B67-836E-4BC1920C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04688-814B-4903-91E3-59B2E5E5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283-1F22-4E5C-8C4A-0F80D0A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CE78-294C-4B22-A32B-E316AD3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7F381-65E5-4FA1-B492-44F7C42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65E8-3B2F-4ACB-8388-25255038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104AC-C246-4220-B1D3-0805788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957A-30FF-4345-A08F-BC1C93DF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61E5-D4C3-43DE-A4A2-1E2668B8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62AE-8CDF-4EC7-874D-94E1F9C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D86E-4EE6-42C9-94A0-115A20C1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2A6B-C7AB-40CE-B705-B06429F4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5203E-DED8-48A2-AF40-10594E6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1A8-40B8-4BDA-913C-8E6A42BD3698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B995-1753-4B33-97D0-D009B3A0C40B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5239-B979-45F7-B38C-F079E0182CA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D19-E293-4889-B1A5-DA85FC6DB10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59CA-A5B3-4668-9E09-372A1076E2BC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prstGeom prst="pi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6560"/>
              <a:chOff x="685800" y="0"/>
              <a:chExt cx="8001000" cy="685656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5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5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6032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804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9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524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804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88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524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7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469-0852-4C6E-B8A6-470DE73A130F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1381-9CB0-4A60-8BFC-E8FCECD64C53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50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052B-381B-4281-BF89-2B52B12C9169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BEFA-ACE0-4D24-A0AD-66FBE1C64A12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FF85-63DA-4348-A13D-0C89A7CF8C5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591-20C9-4FF2-9967-F1DC6746010A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D65B-5400-4037-A400-30B661743D2D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BD8-D523-4D50-B518-D87621DDD3F9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59760"/>
          </a:xfrm>
          <a:prstGeom prst="rect">
            <a:avLst/>
          </a:prstGeom>
          <a:ln w="0">
            <a:noFill/>
          </a:ln>
        </p:spPr>
      </p:pic>
      <p:pic>
        <p:nvPicPr>
          <p:cNvPr id="883" name="Title 1" descr=""/>
          <p:cNvPicPr/>
          <p:nvPr/>
        </p:nvPicPr>
        <p:blipFill>
          <a:blip r:embed="rId2"/>
          <a:stretch/>
        </p:blipFill>
        <p:spPr>
          <a:xfrm>
            <a:off x="938160" y="433440"/>
            <a:ext cx="6821640" cy="41878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Lab_Safety_not a circus.jpg"/>
          <p:cNvPicPr/>
          <p:nvPr/>
        </p:nvPicPr>
        <p:blipFill>
          <a:blip r:embed="rId3"/>
          <a:stretch/>
        </p:blipFill>
        <p:spPr>
          <a:xfrm>
            <a:off x="6781680" y="5295960"/>
            <a:ext cx="2082960" cy="156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Title 1" descr=""/>
          <p:cNvPicPr/>
          <p:nvPr/>
        </p:nvPicPr>
        <p:blipFill>
          <a:blip r:embed="rId1"/>
          <a:stretch/>
        </p:blipFill>
        <p:spPr>
          <a:xfrm>
            <a:off x="1292400" y="225360"/>
            <a:ext cx="6717960" cy="115272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 txBox="1"/>
          <p:nvPr/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6" name="Picture 1" descr=""/>
          <p:cNvPicPr/>
          <p:nvPr/>
        </p:nvPicPr>
        <p:blipFill>
          <a:blip r:embed="rId2"/>
          <a:srcRect l="14063" t="22918" r="14845" b="6250"/>
          <a:stretch/>
        </p:blipFill>
        <p:spPr>
          <a:xfrm>
            <a:off x="1447920" y="11430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0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Title 1" descr=""/>
          <p:cNvPicPr/>
          <p:nvPr/>
        </p:nvPicPr>
        <p:blipFill>
          <a:blip r:embed="rId1"/>
          <a:stretch/>
        </p:blipFill>
        <p:spPr>
          <a:xfrm>
            <a:off x="1401840" y="55440"/>
            <a:ext cx="6840360" cy="1706760"/>
          </a:xfrm>
          <a:prstGeom prst="rect">
            <a:avLst/>
          </a:prstGeom>
          <a:ln w="0">
            <a:noFill/>
          </a:ln>
        </p:spPr>
      </p:pic>
      <p:pic>
        <p:nvPicPr>
          <p:cNvPr id="91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444680"/>
            <a:ext cx="6638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1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1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82560" y="1895400"/>
            <a:ext cx="80107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1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835200" y="1670040"/>
            <a:ext cx="7785000" cy="481644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5905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1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907920" y="1517760"/>
            <a:ext cx="71755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Title 1" descr=""/>
          <p:cNvPicPr/>
          <p:nvPr/>
        </p:nvPicPr>
        <p:blipFill>
          <a:blip r:embed="rId1"/>
          <a:stretch/>
        </p:blipFill>
        <p:spPr>
          <a:xfrm>
            <a:off x="865080" y="480960"/>
            <a:ext cx="7236000" cy="1281240"/>
          </a:xfrm>
          <a:prstGeom prst="rect">
            <a:avLst/>
          </a:prstGeom>
          <a:ln w="0">
            <a:noFill/>
          </a:ln>
        </p:spPr>
      </p:pic>
      <p:pic>
        <p:nvPicPr>
          <p:cNvPr id="88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987480" y="1212840"/>
            <a:ext cx="78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298440" y="1212840"/>
            <a:ext cx="8852040" cy="61992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" descr="Lab_Safety_sniffing chemicals.jpg"/>
          <p:cNvPicPr/>
          <p:nvPr/>
        </p:nvPicPr>
        <p:blipFill>
          <a:blip r:embed="rId3"/>
          <a:stretch/>
        </p:blipFill>
        <p:spPr>
          <a:xfrm>
            <a:off x="5791320" y="1522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1000080" y="360360"/>
            <a:ext cx="7924680" cy="19620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334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5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82560" y="1292400"/>
            <a:ext cx="74008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itle 1" descr=""/>
          <p:cNvPicPr/>
          <p:nvPr/>
        </p:nvPicPr>
        <p:blipFill>
          <a:blip r:embed="rId1"/>
          <a:stretch/>
        </p:blipFill>
        <p:spPr>
          <a:xfrm>
            <a:off x="755640" y="165240"/>
            <a:ext cx="7381800" cy="18223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" descr=""/>
          <p:cNvPicPr/>
          <p:nvPr/>
        </p:nvPicPr>
        <p:blipFill>
          <a:blip r:embed="rId3"/>
          <a:stretch/>
        </p:blipFill>
        <p:spPr>
          <a:xfrm>
            <a:off x="4876920" y="2895480"/>
            <a:ext cx="3004920" cy="2248200"/>
          </a:xfrm>
          <a:prstGeom prst="rect">
            <a:avLst/>
          </a:prstGeom>
          <a:ln w="0">
            <a:noFill/>
          </a:ln>
        </p:spPr>
      </p:pic>
      <p:sp>
        <p:nvSpPr>
          <p:cNvPr id="899" name="TextBox 5"/>
          <p:cNvSpPr/>
          <p:nvPr/>
        </p:nvSpPr>
        <p:spPr>
          <a:xfrm>
            <a:off x="1295280" y="5486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hich  yeast would react faster with hydrogen peroxid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Title 1" descr=""/>
          <p:cNvPicPr/>
          <p:nvPr/>
        </p:nvPicPr>
        <p:blipFill>
          <a:blip r:embed="rId1"/>
          <a:stretch/>
        </p:blipFill>
        <p:spPr>
          <a:xfrm>
            <a:off x="1444680" y="480960"/>
            <a:ext cx="6638760" cy="1281240"/>
          </a:xfrm>
          <a:prstGeom prst="rect">
            <a:avLst/>
          </a:prstGeom>
          <a:ln w="0">
            <a:noFill/>
          </a:ln>
        </p:spPr>
      </p:pic>
      <p:pic>
        <p:nvPicPr>
          <p:cNvPr id="90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03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21:42:20Z</dcterms:created>
  <dc:creator>Andrea Pascasio</dc:creator>
  <dc:description/>
  <dc:language>en-US</dc:language>
  <cp:lastModifiedBy>Andrea Pascasio</cp:lastModifiedBy>
  <dcterms:modified xsi:type="dcterms:W3CDTF">2009-06-18T05:47:52Z</dcterms:modified>
  <cp:revision>41</cp:revision>
  <dc:subject/>
  <dc:title>There are a lot of changes that occur in the dynamic of a classroom when inquiry based science is conducted.</dc:title>
</cp:coreProperties>
</file>